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62840" y="127080"/>
            <a:ext cx="185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88320" y="66308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1E2-982E-44DA-B588-E05E0797BF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-318960"/>
            <a:ext cx="4160880" cy="730080"/>
            <a:chOff x="228600" y="-318960"/>
            <a:chExt cx="4160880" cy="730080"/>
          </a:xfrm>
        </p:grpSpPr>
        <p:sp>
          <p:nvSpPr>
            <p:cNvPr id="5" name=""/>
            <p:cNvSpPr/>
            <p:nvPr/>
          </p:nvSpPr>
          <p:spPr>
            <a:xfrm>
              <a:off x="228600" y="46080"/>
              <a:ext cx="41608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recasting Industry 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8600" y="-318960"/>
              <a:ext cx="4160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-31896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8600" y="4111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28600" y="-318960"/>
              <a:ext cx="0" cy="73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389480" y="-318960"/>
              <a:ext cx="0" cy="73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8305920" y="65530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ing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4983120" y="-304920"/>
            <a:ext cx="4160880" cy="730440"/>
            <a:chOff x="4983120" y="-304920"/>
            <a:chExt cx="4160880" cy="730440"/>
          </a:xfrm>
        </p:grpSpPr>
        <p:sp>
          <p:nvSpPr>
            <p:cNvPr id="15" name=""/>
            <p:cNvSpPr/>
            <p:nvPr/>
          </p:nvSpPr>
          <p:spPr>
            <a:xfrm>
              <a:off x="4983120" y="90360"/>
              <a:ext cx="4160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83120" y="-304920"/>
              <a:ext cx="416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83120" y="-3049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983120" y="425520"/>
              <a:ext cx="416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983120" y="-304920"/>
              <a:ext cx="0" cy="730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44000" y="-304920"/>
              <a:ext cx="0" cy="730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62840" y="127080"/>
            <a:ext cx="1852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8320" y="663084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519C-9BE7-4B38-A380-D3BF012A889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191120"/>
            <a:ext cx="64008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Forecasting Industry Placement</a:t>
            </a:r>
            <a:endParaRPr b="1" lang="en-US" sz="2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 Blous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tiana Ivan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nali Palkhiw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dra Subraman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tt Waks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61000" y="5076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–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1219320"/>
            <a:ext cx="283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7840" y="4927680"/>
            <a:ext cx="13590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7960" y="5675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486400"/>
            <a:ext cx="1141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03520" y="3772080"/>
            <a:ext cx="762120" cy="35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5680" y="2133720"/>
            <a:ext cx="143496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19040" y="1276200"/>
            <a:ext cx="79628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949280" y="5076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25640" y="137160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2000" y="3592440"/>
            <a:ext cx="4371840" cy="2714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06280" y="747720"/>
            <a:ext cx="426744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762 trial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00040" y="50760"/>
            <a:ext cx="491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–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86080" y="3513240"/>
            <a:ext cx="4371840" cy="2714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81360" y="129852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68760" y="50760"/>
            <a:ext cx="44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rystal Ball Simulation -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86080" y="3241800"/>
            <a:ext cx="4371840" cy="27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39920" y="1258920"/>
            <a:ext cx="47703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: 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ndard Deviation: 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465320" y="5076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14360" y="4205160"/>
            <a:ext cx="8729640" cy="1352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3240" y="936720"/>
            <a:ext cx="800604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termined and forecasted placement percentages for 2007 and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commend that OCD strengthen its consulting effort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ing in relationship managers with prior work experience in consulting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he students by organizing more events by alumni and 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16160" y="2924280"/>
            <a:ext cx="602136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ctr"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95800" y="507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52440" y="787320"/>
            <a:ext cx="3809880" cy="236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23880" y="3651120"/>
            <a:ext cx="3436920" cy="2133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703760" y="942840"/>
            <a:ext cx="3436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99560" y="50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8520" y="1298520"/>
            <a:ext cx="5061600" cy="39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the Decis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 Ball 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06080" y="50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" y="1341360"/>
            <a:ext cx="9270000" cy="48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ial 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conomic factors affect MBA place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we predict career placements by industry using these economic fac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gression and simulation to predict MBA placements, upon grad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industry based on certain economic indica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schools can strengthen their career services efforts in specific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A students and prospective students can gauge the job market and 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specific recruiting tre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A employers can improve their hiring plans and recruiting strateg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434640" y="507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914400"/>
            <a:ext cx="2286000" cy="86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 MBA placement by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438280"/>
            <a:ext cx="2286000" cy="924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placement s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econom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066680"/>
            <a:ext cx="2286000" cy="263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 leading economic indicators against placement statistics by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12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statistically significa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run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8" idx="3"/>
            <a:endCxn id="109" idx="1"/>
          </p:cNvCxnSpPr>
          <p:nvPr/>
        </p:nvCxnSpPr>
        <p:spPr>
          <a:xfrm flipV="1">
            <a:off x="3504960" y="2381040"/>
            <a:ext cx="2972520" cy="521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819520" y="2590920"/>
            <a:ext cx="2133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3962520"/>
            <a:ext cx="2590920" cy="86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rystal Ball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ate results for significant variables used in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9" idx="2"/>
            <a:endCxn id="112" idx="3"/>
          </p:cNvCxnSpPr>
          <p:nvPr/>
        </p:nvCxnSpPr>
        <p:spPr>
          <a:xfrm rot="5400000">
            <a:off x="6239160" y="3018600"/>
            <a:ext cx="703800" cy="20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4" name=""/>
          <p:cNvGrpSpPr/>
          <p:nvPr/>
        </p:nvGrpSpPr>
        <p:grpSpPr>
          <a:xfrm>
            <a:off x="2438280" y="5257800"/>
            <a:ext cx="3657600" cy="1295280"/>
            <a:chOff x="2438280" y="5257800"/>
            <a:chExt cx="3657600" cy="1295280"/>
          </a:xfrm>
        </p:grpSpPr>
        <p:sp>
          <p:nvSpPr>
            <p:cNvPr id="115" name=""/>
            <p:cNvSpPr/>
            <p:nvPr/>
          </p:nvSpPr>
          <p:spPr>
            <a:xfrm>
              <a:off x="2438280" y="5257800"/>
              <a:ext cx="3657600" cy="1295280"/>
            </a:xfrm>
            <a:prstGeom prst="flowChartManualOperati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5261040"/>
              <a:ext cx="2590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9160" indent="-119160"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19160" indent="-119160">
                <a:lnSpc>
                  <a:spcPct val="11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sing regression equation, predict % of MBA students placed in each industr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" name=""/>
          <p:cNvCxnSpPr>
            <a:stCxn id="112" idx="2"/>
            <a:endCxn id="115" idx="0"/>
          </p:cNvCxnSpPr>
          <p:nvPr/>
        </p:nvCxnSpPr>
        <p:spPr>
          <a:xfrm>
            <a:off x="4266720" y="4833720"/>
            <a:ext cx="108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2361960" y="1785960"/>
            <a:ext cx="1080" cy="65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440" y="507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ata Collec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1371600"/>
            <a:ext cx="644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1480" y="1484280"/>
            <a:ext cx="3119760" cy="1739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 Placement Data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91-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76880" y="1469880"/>
            <a:ext cx="3483000" cy="3934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c Indicator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91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farm Payro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Year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Sent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amp;P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3040" y="6400800"/>
            <a:ext cx="535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Obtained from Columbia Business School Placement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9760" y="695160"/>
            <a:ext cx="30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ent Vari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63920" y="717480"/>
            <a:ext cx="30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Vari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960" y="1257480"/>
            <a:ext cx="7489800" cy="4984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95360" y="1130400"/>
            <a:ext cx="2832120" cy="69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6600" y="4051440"/>
            <a:ext cx="711000" cy="29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626080"/>
            <a:ext cx="1295280" cy="279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30360" y="61070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87920" y="591804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68760" y="4546440"/>
            <a:ext cx="76176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1854360"/>
            <a:ext cx="1092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840" y="44560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4317840"/>
            <a:ext cx="368280" cy="27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5840" y="620640"/>
            <a:ext cx="575100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So we pulled out 10-Year and things got bett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7640" y="1187280"/>
            <a:ext cx="7836120" cy="4984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2760" y="1143000"/>
            <a:ext cx="283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57880" y="5537160"/>
            <a:ext cx="135864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9600" y="60436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37160" y="585468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93960" y="4432320"/>
            <a:ext cx="76212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92440" y="1790640"/>
            <a:ext cx="1092240" cy="3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8880" y="1351080"/>
            <a:ext cx="7412040" cy="4946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6920" y="620640"/>
            <a:ext cx="309456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iiiiiiiiiiiiice Residual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91920" y="5076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-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42680" y="5076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gression Analysis – Finan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9080" y="620640"/>
            <a:ext cx="347112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 5% level of significan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95360" y="1258920"/>
            <a:ext cx="8383680" cy="4694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3840" y="1193760"/>
            <a:ext cx="283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49840" y="5295960"/>
            <a:ext cx="1359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9600" y="60436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7160" y="5854680"/>
            <a:ext cx="1144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2120" y="4064040"/>
            <a:ext cx="762120" cy="35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8280" y="2184480"/>
            <a:ext cx="2044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1:13:01Z</dcterms:created>
  <dc:creator>Lisa Thelen</dc:creator>
  <dc:description/>
  <dc:language>en-US</dc:language>
  <cp:lastModifiedBy>Stern Business School</cp:lastModifiedBy>
  <dcterms:modified xsi:type="dcterms:W3CDTF">2006-04-24T13:02:20Z</dcterms:modified>
  <cp:revision>531</cp:revision>
  <dc:subject/>
  <dc:title>Market Sizing &amp; Porter’s Five Forces</dc:title>
</cp:coreProperties>
</file>